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559C-F9BB-4525-87D1-ED32D1CB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30AC-15B9-4170-8195-1EA21BAA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9336-25F1-4C7C-86EC-8C301833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1BA5-D263-4C40-B5C6-28E6731E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3549-B46E-4306-97E8-BAABEB15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2249-6DD1-42B3-B2F3-A72BCB39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D33C-F180-4491-80B9-F36C32FD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73A7-841A-49D4-A144-ABC2A5A4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8584-AF46-4CB1-8607-FE2F1DF8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C895-58CC-417A-9846-CDF04561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B89A-42FC-4F9A-A292-59C95D33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5DF0-E375-4C46-8887-D9E3DE99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7A82-EF68-4688-97A0-9F5A5A7F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B815-2D1F-4565-A3D0-C29826D1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9561-E5F7-4623-8965-82AD28AE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6314-4EF2-4D6D-9ECD-72586C19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4EC6-9964-401D-A713-60CFE3BD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45215-ACFF-4B17-87A8-8FD8BCF7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90732-846D-4823-B7FD-2A24DEAD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5FB1B-2020-4FC4-AAD3-81B0D04C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2CA9C-2709-4C79-BBF1-011DC674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346FC-5F06-4F74-8C39-25591F41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A93A-2265-49DC-AF33-BB20C634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9897C-FBC1-417C-934A-D51C8782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B4308-28C4-449A-85A4-1480FC0B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7FCA6-7179-4EDF-BC11-A9248FEB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75BB5-7539-445A-AA57-E81A593B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3B12E-8D5F-4CAA-88CC-090A6F17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714E9-C246-43C5-B017-06DF18B8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EE6B5-84E7-4DCF-A014-31F27E16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D1ADE-6135-4502-8B70-6D2B61B2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F2CC9-4BF7-4FA5-AD5A-69854659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AE671-1493-49F2-AAF8-B2BC1117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760-F48D-404E-80BA-0A464B1D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45373-14EF-4AB4-A5DB-16F29D82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483F5-08F1-4476-838F-9F72F7F9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8704A-D953-4AA4-9B12-6988BCB3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2D935-ED74-42C7-B7D3-D8B58F81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10FF4-F72E-40D5-9716-92C31A07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925C3-2275-448F-BD33-643F0159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46FD4-1956-47B9-AA6D-A6A6EB00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DA5D2-FC20-4DC5-A0C0-9A5B7B35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61427-66D7-4CB7-9BBF-4C6D5888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3710B-8F98-44F9-851A-4010A9A9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1C18-DFBB-4AD1-9AF1-66D832D2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46ADB-C495-4709-A524-6B751EBC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03C79-D921-4F71-89B1-FA68CEF7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89D7B-F66A-4380-9A27-963A0A27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13C45-CA00-472E-BEB6-A0F3B3DD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3CD68-DC93-4CD9-936D-93F6C0C8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916E2-E764-45C0-8A99-D8A09EEC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5CA05-0B46-4AD1-B101-24257ED2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C9788-47AC-4DB7-825D-9FCC9911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42E7E-4D07-470A-848A-63574AE7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AA6CE-73A9-42B0-A12F-8F1A13DFE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BF82-E257-44D7-83F3-A7550676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6F1B5-8BFE-4393-9666-9748DCBC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E6500-151B-4D20-9718-D199C0587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1A502-161C-482D-8B04-50E72C96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DCEC4-F6E1-491C-8335-9ED595F7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793F7-F632-4672-B45E-844C5E96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830FA-B321-40E5-9751-8965F01C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8477F-360C-4B38-ACA1-B7E081A7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A9453-7BBF-44E7-8F6B-26A13F7C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237F7-8B4E-401C-9D4D-152B4AD2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5EF16-8884-4A13-89A6-1495EB63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501B-38BF-4B09-81FD-056969D8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36A7E-5C44-47CA-BB46-2F967646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A234B-3569-4FE8-874A-CB944E77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595F2-F5F5-4621-B257-07AD8CC3D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357F3-AE57-4570-8C7B-E557093F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BFEDA-6A88-408A-854D-6EA2F8BB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F2740-9D27-47B8-92D4-836DDA58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314EF-1221-4A31-BF2C-62F0A50D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F829C-928A-481C-96EE-2623213A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DEF5A-908F-42F2-9891-D9186C6F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FDAC9-2C1E-407A-B0C7-0ABFE9B8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FC12-4664-4471-8E68-14198C79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77111-0222-459A-9615-0689C162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1A345-BD03-433E-B07A-46B37216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88F5B-95FB-4364-BD1E-53F09E91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EEFFC-9BC7-4045-A5C4-0F11FFD4A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E8101-A92B-4D0B-89BC-8E41D09F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6E2E-CBB6-4CB2-90B2-C01F6132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28F0-CEC0-42BD-8B6D-593B118735B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3A21-2F21-46A0-8034-A7CD0878E3A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2CDD-3552-4F4B-893A-40DF756203C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693C-8B05-4290-B357-0450C7BB6EA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93F5-FE26-4FAD-8BAD-8F627ABC2B7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FDF9-1DEF-438D-8DEF-A4AD28D7E14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1EFF-33A3-4D6C-9D8D-1314CAB8D89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       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люч к тес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 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Б) 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) 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) 1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) Природное сообществ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115920"/>
            <a:ext cx="74995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72314"/>
                </a:solidFill>
                <a:latin typeface="Corbel"/>
              </a:rPr>
              <a:t>Но самыми  многочисленными обитателями являются грызуны. Один из самых известных полевых зверьков- крот. Также распространенными полевыми жителями являются мыши и хомяки. Эти грызуны очень осторожны, они могут быстро бегать ,но тем не менее, часто становятся жертвами многих хищников.</a:t>
            </a:r>
            <a:br>
              <a:rPr sz="2200"/>
            </a:b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4365720"/>
            <a:ext cx="749952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1039680" y="2576520"/>
            <a:ext cx="3875400" cy="3097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"/>
          <p:cNvPicPr/>
          <p:nvPr/>
        </p:nvPicPr>
        <p:blipFill>
          <a:blip r:embed="rId2"/>
          <a:stretch/>
        </p:blipFill>
        <p:spPr>
          <a:xfrm>
            <a:off x="4962600" y="1881360"/>
            <a:ext cx="3876480" cy="23479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" descr=""/>
          <p:cNvPicPr/>
          <p:nvPr/>
        </p:nvPicPr>
        <p:blipFill>
          <a:blip r:embed="rId3"/>
          <a:stretch/>
        </p:blipFill>
        <p:spPr>
          <a:xfrm>
            <a:off x="4986360" y="4329000"/>
            <a:ext cx="3876480" cy="2468520"/>
          </a:xfrm>
          <a:prstGeom prst="rect">
            <a:avLst/>
          </a:prstGeom>
          <a:ln w="0">
            <a:noFill/>
          </a:ln>
        </p:spPr>
      </p:pic>
      <p:sp>
        <p:nvSpPr>
          <p:cNvPr id="354" name="TextBox 2"/>
          <p:cNvSpPr/>
          <p:nvPr/>
        </p:nvSpPr>
        <p:spPr>
          <a:xfrm>
            <a:off x="1763640" y="5097600"/>
            <a:ext cx="2232000" cy="368280"/>
          </a:xfrm>
          <a:prstGeom prst="rect">
            <a:avLst/>
          </a:prstGeom>
          <a:gradFill rotWithShape="0">
            <a:gsLst>
              <a:gs pos="0">
                <a:srgbClr val="97c5d7"/>
              </a:gs>
              <a:gs pos="100000">
                <a:srgbClr val="e1ec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КРО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TextBox 7"/>
          <p:cNvSpPr/>
          <p:nvPr/>
        </p:nvSpPr>
        <p:spPr>
          <a:xfrm>
            <a:off x="5699160" y="3706920"/>
            <a:ext cx="2305080" cy="368280"/>
          </a:xfrm>
          <a:prstGeom prst="rect">
            <a:avLst/>
          </a:prstGeom>
          <a:gradFill rotWithShape="0">
            <a:gsLst>
              <a:gs pos="0">
                <a:srgbClr val="97c5d7"/>
              </a:gs>
              <a:gs pos="100000">
                <a:srgbClr val="e1ec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Хомяк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Птицы, живущие на полях, являются представителями отряда воробьиных. Чаще всего встречаются жаворонки и серые мухоловки. Жаворонки поселяются только на открытых участках. Они привлекают внимание своим мелодичным пением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434960" y="3645000"/>
            <a:ext cx="749952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1165320" y="3463920"/>
            <a:ext cx="3578040" cy="26035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4859280" y="3427560"/>
            <a:ext cx="3959280" cy="2652480"/>
          </a:xfrm>
          <a:prstGeom prst="rect">
            <a:avLst/>
          </a:prstGeom>
          <a:ln w="0">
            <a:noFill/>
          </a:ln>
        </p:spPr>
      </p:pic>
      <p:sp>
        <p:nvSpPr>
          <p:cNvPr id="360" name="TextBox 2"/>
          <p:cNvSpPr/>
          <p:nvPr/>
        </p:nvSpPr>
        <p:spPr>
          <a:xfrm>
            <a:off x="5508720" y="5229360"/>
            <a:ext cx="1942920" cy="642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Серая мухоловка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На полях можно встретить большое количество представителей отряда куриных. Самыми распространенными из них являются перепела, серые куропатки. Большая часть птиц, обитающих на полях, являются перелетными.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1093680" y="3624120"/>
            <a:ext cx="3822840" cy="3033720"/>
          </a:xfrm>
          <a:prstGeom prst="rect">
            <a:avLst/>
          </a:prstGeom>
          <a:ln w="0">
            <a:noFill/>
          </a:ln>
        </p:spPr>
      </p:pic>
      <p:sp>
        <p:nvSpPr>
          <p:cNvPr id="363" name="TextBox 2"/>
          <p:cNvSpPr/>
          <p:nvPr/>
        </p:nvSpPr>
        <p:spPr>
          <a:xfrm>
            <a:off x="6773760" y="4005360"/>
            <a:ext cx="187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4" name="Picture 7" descr="Перепел в домашнем хозйстве | Календарь праздников!"/>
          <p:cNvPicPr/>
          <p:nvPr/>
        </p:nvPicPr>
        <p:blipFill>
          <a:blip r:embed="rId2"/>
          <a:stretch/>
        </p:blipFill>
        <p:spPr>
          <a:xfrm>
            <a:off x="4916520" y="3728880"/>
            <a:ext cx="4138560" cy="2928960"/>
          </a:xfrm>
          <a:prstGeom prst="rect">
            <a:avLst/>
          </a:prstGeom>
          <a:ln w="0">
            <a:noFill/>
          </a:ln>
        </p:spPr>
      </p:pic>
      <p:sp>
        <p:nvSpPr>
          <p:cNvPr id="365" name="TextBox 2"/>
          <p:cNvSpPr/>
          <p:nvPr/>
        </p:nvSpPr>
        <p:spPr>
          <a:xfrm>
            <a:off x="6156360" y="5950080"/>
            <a:ext cx="2232000" cy="368280"/>
          </a:xfrm>
          <a:prstGeom prst="rect">
            <a:avLst/>
          </a:prstGeom>
          <a:gradFill rotWithShape="0">
            <a:gsLst>
              <a:gs pos="0">
                <a:srgbClr val="97c5d7"/>
              </a:gs>
              <a:gs pos="100000">
                <a:srgbClr val="e1ec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ПЕРЕПЕЛ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1023840" y="695160"/>
            <a:ext cx="3384720" cy="26258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3" descr=""/>
          <p:cNvPicPr/>
          <p:nvPr/>
        </p:nvPicPr>
        <p:blipFill>
          <a:blip r:embed="rId2"/>
          <a:stretch/>
        </p:blipFill>
        <p:spPr>
          <a:xfrm>
            <a:off x="5502240" y="803160"/>
            <a:ext cx="3649680" cy="25527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"/>
          <p:cNvPicPr/>
          <p:nvPr/>
        </p:nvPicPr>
        <p:blipFill>
          <a:blip r:embed="rId3"/>
          <a:stretch/>
        </p:blipFill>
        <p:spPr>
          <a:xfrm>
            <a:off x="1440000" y="3971880"/>
            <a:ext cx="3168360" cy="2664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4"/>
          <a:stretch/>
        </p:blipFill>
        <p:spPr>
          <a:xfrm>
            <a:off x="5435640" y="4187880"/>
            <a:ext cx="3540240" cy="2448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"/>
          <p:cNvPicPr/>
          <p:nvPr/>
        </p:nvPicPr>
        <p:blipFill>
          <a:blip r:embed="rId5"/>
          <a:stretch/>
        </p:blipFill>
        <p:spPr>
          <a:xfrm>
            <a:off x="3314880" y="2297160"/>
            <a:ext cx="3393720" cy="2374920"/>
          </a:xfrm>
          <a:prstGeom prst="rect">
            <a:avLst/>
          </a:prstGeom>
          <a:ln w="0">
            <a:noFill/>
          </a:ln>
        </p:spPr>
      </p:pic>
      <p:sp>
        <p:nvSpPr>
          <p:cNvPr id="371" name="TextBox 2"/>
          <p:cNvSpPr/>
          <p:nvPr/>
        </p:nvSpPr>
        <p:spPr>
          <a:xfrm>
            <a:off x="5219640" y="2637000"/>
            <a:ext cx="1152720" cy="368280"/>
          </a:xfrm>
          <a:prstGeom prst="rect">
            <a:avLst/>
          </a:prstGeom>
          <a:gradFill rotWithShape="0">
            <a:gsLst>
              <a:gs pos="0">
                <a:srgbClr val="97c5d7"/>
              </a:gs>
              <a:gs pos="100000">
                <a:srgbClr val="e1ecf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ЯСТРЕБ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1187280" y="0"/>
            <a:ext cx="778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3e21"/>
                </a:solidFill>
                <a:latin typeface="Gill Sans MT"/>
              </a:rPr>
              <a:t> </a:t>
            </a:r>
            <a:r>
              <a:rPr b="0" lang="ru-RU" sz="2800" spc="-1" strike="noStrike">
                <a:solidFill>
                  <a:srgbClr val="835e01"/>
                </a:solidFill>
                <a:latin typeface="Gill Sans MT"/>
              </a:rPr>
              <a:t>В поле можно встретить и хищных птиц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тицы помогают людям бороться с насекомыми-вредителями . Зерновые культуры страдают от жука-кузьки, хлебной жужелицы, шведской мухи.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2708280"/>
            <a:ext cx="749952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1474920" y="2492280"/>
            <a:ext cx="2952720" cy="2449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5796000" y="2492280"/>
            <a:ext cx="3073320" cy="24494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3"/>
          <a:stretch/>
        </p:blipFill>
        <p:spPr>
          <a:xfrm>
            <a:off x="3780000" y="4186080"/>
            <a:ext cx="2663640" cy="2082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ЕПЬ ПИТАНИЯ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Например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1.Зерно- мыши- ежи-совы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тог урока</a:t>
            </a: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1.Скажите,какая у нас была тема урока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2.Что нового узнали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3.Давайте посмотрим на наше поле. Понравилось оно вам и чем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4.Скажите, а  что такое поле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5.Чем поле отличается от луга?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1"/>
          <p:cNvSpPr/>
          <p:nvPr/>
        </p:nvSpPr>
        <p:spPr>
          <a:xfrm>
            <a:off x="1619280" y="33336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ru-RU" sz="4000" spc="-1" strike="noStrike">
                <a:solidFill>
                  <a:srgbClr val="835e01"/>
                </a:solidFill>
                <a:latin typeface="Gill Sans MT"/>
              </a:rPr>
              <a:t>Поле и его обитатели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1562040" y="1447920"/>
            <a:ext cx="7042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258560" y="3213000"/>
            <a:ext cx="76755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72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ле-это большой участок земли с травянистым покровом без деревьев и кустарников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72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оле-это тоже природное сообщество, только искусственное, созданное человеком для выращивания культурных растений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720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2208240" y="260280"/>
            <a:ext cx="5761080" cy="2664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404280"/>
            <a:ext cx="7499520" cy="584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6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300" spc="-1" strike="noStrike">
                <a:solidFill>
                  <a:srgbClr val="000000"/>
                </a:solidFill>
                <a:latin typeface="Corbel"/>
              </a:rPr>
              <a:t>На полях люди выращивают зерновые культуры:   рожь, пшеницу, овес, ячмень, просо, кукурузу, гречиху.  На полях растут и овощные культуры: капуста, свекла, картофель, горох. Засевают поля и кормовыми травами: люцерна, люпин; а также масляничными: подсолнух , прядильными культурами: льном и хлопком.</a:t>
            </a:r>
            <a:br>
              <a:rPr sz="3300"/>
            </a:b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766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1547640" y="81000"/>
            <a:ext cx="3095640" cy="2303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2"/>
          <a:stretch/>
        </p:blipFill>
        <p:spPr>
          <a:xfrm>
            <a:off x="5076720" y="152280"/>
            <a:ext cx="3467160" cy="2232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"/>
          <p:cNvPicPr/>
          <p:nvPr/>
        </p:nvPicPr>
        <p:blipFill>
          <a:blip r:embed="rId3"/>
          <a:stretch/>
        </p:blipFill>
        <p:spPr>
          <a:xfrm>
            <a:off x="1357200" y="3860640"/>
            <a:ext cx="3240360" cy="23767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"/>
          <p:cNvPicPr/>
          <p:nvPr/>
        </p:nvPicPr>
        <p:blipFill>
          <a:blip r:embed="rId4"/>
          <a:stretch/>
        </p:blipFill>
        <p:spPr>
          <a:xfrm>
            <a:off x="5508720" y="3716280"/>
            <a:ext cx="3144600" cy="2521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"/>
          <p:cNvPicPr/>
          <p:nvPr/>
        </p:nvPicPr>
        <p:blipFill>
          <a:blip r:embed="rId5"/>
          <a:stretch/>
        </p:blipFill>
        <p:spPr>
          <a:xfrm>
            <a:off x="2603520" y="1955880"/>
            <a:ext cx="3936960" cy="2946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3168720" cy="23050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5364000" y="304920"/>
            <a:ext cx="3240360" cy="22669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3"/>
          <a:stretch/>
        </p:blipFill>
        <p:spPr>
          <a:xfrm>
            <a:off x="1454040" y="2997360"/>
            <a:ext cx="3333960" cy="2808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"/>
          <p:cNvPicPr/>
          <p:nvPr/>
        </p:nvPicPr>
        <p:blipFill>
          <a:blip r:embed="rId4"/>
          <a:stretch/>
        </p:blipFill>
        <p:spPr>
          <a:xfrm>
            <a:off x="5076720" y="2894040"/>
            <a:ext cx="3936960" cy="2946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alibri"/>
                <a:ea typeface="Calibri"/>
              </a:rPr>
              <a:t>На полях вырастают и сорняки: осот, василек полевой ,лебеда ,пырей ,пастушья сумка.</a:t>
            </a:r>
            <a:br>
              <a:rPr sz="28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844280"/>
            <a:ext cx="749952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1547640" y="1932120"/>
            <a:ext cx="2953080" cy="2360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5435640" y="1932120"/>
            <a:ext cx="3002040" cy="23605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" descr=""/>
          <p:cNvPicPr/>
          <p:nvPr/>
        </p:nvPicPr>
        <p:blipFill>
          <a:blip r:embed="rId3"/>
          <a:stretch/>
        </p:blipFill>
        <p:spPr>
          <a:xfrm>
            <a:off x="3348000" y="3933720"/>
            <a:ext cx="324000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35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В полях обитают животные, насекомые и птицы. Животные полей чаще ведут мигрирующий образ жизни, и преодолевают огромные расстояния в поисках пищи. Большая часть жителей полей питается растительностью .Именно поэтому многие из них имеют широкие зубы с уплощенной верхней частью. На самых маленьких охотятся более крупные хищники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4005000"/>
            <a:ext cx="749952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1547640" y="4141800"/>
            <a:ext cx="3384720" cy="2441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3" descr=""/>
          <p:cNvPicPr/>
          <p:nvPr/>
        </p:nvPicPr>
        <p:blipFill>
          <a:blip r:embed="rId2"/>
          <a:stretch/>
        </p:blipFill>
        <p:spPr>
          <a:xfrm>
            <a:off x="5241960" y="4084560"/>
            <a:ext cx="3660840" cy="2498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Corbel"/>
              </a:rPr>
              <a:t>В полях, которые граничат с лугами и перелесками, встречаются лисы, ласки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.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Picture 2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4319640" cy="26654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" descr=""/>
          <p:cNvPicPr/>
          <p:nvPr/>
        </p:nvPicPr>
        <p:blipFill>
          <a:blip r:embed="rId2"/>
          <a:stretch/>
        </p:blipFill>
        <p:spPr>
          <a:xfrm>
            <a:off x="4097160" y="3570120"/>
            <a:ext cx="457200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20:40:15Z</dcterms:created>
  <dc:creator>онтон</dc:creator>
  <dc:description/>
  <dc:language>en-US</dc:language>
  <cp:lastModifiedBy>Татьяна Васильева</cp:lastModifiedBy>
  <dcterms:modified xsi:type="dcterms:W3CDTF">2021-02-23T13:35:06Z</dcterms:modified>
  <cp:revision>16</cp:revision>
  <dc:subject/>
  <dc:title>Поле и его обитатели</dc:title>
</cp:coreProperties>
</file>